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FD553-4510-472D-AEF1-B6916209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75B94-AAC0-4BBE-97E4-80E189C2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172F1-8360-4791-86D4-924EFEA5D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01BFD-BE24-4EA4-9496-5CE21CD32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DF90-500A-42A6-BE9D-820A83990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5AC2-2B89-43B6-8310-92AC7656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83C6-9374-41C7-A5D0-D7B344C9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DF06-41FF-471D-A7A9-4AA832BD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CBFE-E751-4FB4-90A2-4B78E1AD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C0EF-4897-4F9E-9927-41584A5E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6DA9-B6BC-4E89-AA2D-713E5911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A11EF-1D0B-43F1-ACDF-D88F529E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5EAB-CE1E-4053-95C2-7AE6FE0F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04A0-21F9-4F80-AD1C-9A07175D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B80E-44AC-4EC7-B8D1-6217BDC2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5278-F158-4869-A49E-D91A8AA51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6046-8D93-4054-8357-97896BDA0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2CF1F-0376-4CFC-A82D-1A332708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0D22D-6248-4F72-8DCF-C3BB76EB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99A66-60C5-40D8-8756-20BBCC81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A0372-4683-419A-9636-5925AE89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72263-78BD-46B9-9713-F8FEEF45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19C55-7FB3-418D-A2D7-CA15290A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9839F-F8A3-4BF3-8870-984C2A53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67C6-ACF3-48FD-A9AF-B59638E9F7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9943-9C89-4A10-8DE7-E5B79643D6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ivius.org/a/1/greeks/homer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vcard.homer-simpson.de/images/homer/pic2.pn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Homer and History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Odyssey and Ancient Greek 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Homer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6" name="Picture 6" descr="Homer3"/>
          <p:cNvPicPr/>
          <p:nvPr/>
        </p:nvPicPr>
        <p:blipFill>
          <a:blip r:embed="rId1"/>
          <a:stretch/>
        </p:blipFill>
        <p:spPr>
          <a:xfrm>
            <a:off x="3348000" y="1773360"/>
            <a:ext cx="237168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Greatest Bard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ny classicists believe that the two surviving Homeric epics were in fact composed by several individuals; in the absence of any evidence to the contrary however, most classicists accept the overall Greek idea of a single author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The Importance of the Homeric Poems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reeks in general regard Homer's two epics as the highest cultural achievement of their people, the defining moment in Greek culture which set the basic Greek character in ston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oughout antiquity, both in Greece and Rome, everything tended to be compared to these two works; events in history made sense when put in the light of the events narrated in these two work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Acropoli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2" name="Picture 6" descr="Acropolis1"/>
          <p:cNvPicPr/>
          <p:nvPr/>
        </p:nvPicPr>
        <p:blipFill>
          <a:blip r:embed="rId1"/>
          <a:stretch/>
        </p:blipFill>
        <p:spPr>
          <a:xfrm>
            <a:off x="2411280" y="1700280"/>
            <a:ext cx="480060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The Importance of the Homeric Poems (Con’t)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a result, then, these two epics are the focal point of Greek values and the Greek world view despite all its evolution and permutations through the centuries following their composi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would not be hasty to regard the Homeric poems as the single most important texts in Greek culture, or indeed (along with a very few texts) that of Western civilization, which stands upon the achievements and ideas of ancient Greec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arthen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6" name="Picture 5" descr="Acropolis"/>
          <p:cNvPicPr/>
          <p:nvPr/>
        </p:nvPicPr>
        <p:blipFill>
          <a:blip r:embed="rId1"/>
          <a:stretch/>
        </p:blipFill>
        <p:spPr>
          <a:xfrm>
            <a:off x="1692360" y="1484280"/>
            <a:ext cx="576576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y study the Odyssey?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omer's Iliad and Odyssey are a major part of ancient history, especially that of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ncient Greece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ncient Greek history provides a cornerstone for all Western political, cultural, artistic, and social realit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urther, the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Ilia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nd the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Odyssey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re believed to have been a major part of a young Greek's education. They remain a part the education of tens of millions of adolescents every year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Homer’s </a:t>
            </a:r>
            <a:r>
              <a:rPr b="0" i="1" lang="en-US" sz="4200" spc="-1" strike="noStrike">
                <a:solidFill>
                  <a:srgbClr val="ffffcc"/>
                </a:solidFill>
                <a:latin typeface="Tahoma"/>
              </a:rPr>
              <a:t>Odyssey’s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Influences are many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0" name="Picture 7" descr="Odysseus2"/>
          <p:cNvPicPr/>
          <p:nvPr/>
        </p:nvPicPr>
        <p:blipFill>
          <a:blip r:embed="rId1"/>
          <a:stretch/>
        </p:blipFill>
        <p:spPr>
          <a:xfrm>
            <a:off x="2916360" y="1916280"/>
            <a:ext cx="331452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ffffcc"/>
                </a:solidFill>
                <a:latin typeface="Tahoma"/>
              </a:rPr>
              <a:t>Stories, Poetry, and Writing </a:t>
            </a:r>
            <a:r>
              <a:rPr b="0" lang="en-CA" sz="2800" spc="-1" strike="noStrike">
                <a:solidFill>
                  <a:srgbClr val="ffffcc"/>
                </a:solidFill>
                <a:latin typeface="Tahoma"/>
              </a:rPr>
              <a:t>are the biggest beneficiaries and descendants of Homer (monomyth anyone?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Get out your “Glossary of Literary Terms” and write in these poetic elements that are traceable back to Hom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Epic Simi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Homeric Epith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oetic 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oetic rhyth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Art: 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Most of what the greatest renaissance artists did to revive and save our civilization was simply to re-create and re-imagine the ancient Greeks.  We’re still doing that…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4" name="Picture 6" descr="odysseus"/>
          <p:cNvPicPr/>
          <p:nvPr/>
        </p:nvPicPr>
        <p:blipFill>
          <a:blip r:embed="rId1"/>
          <a:stretch/>
        </p:blipFill>
        <p:spPr>
          <a:xfrm>
            <a:off x="1835280" y="1773360"/>
            <a:ext cx="48672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hom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1700280"/>
            <a:ext cx="2681280" cy="33415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Homer Question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Ethics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( these stories teach the greeks, and, as a consequence, us how to live)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6" name="Picture 6" descr="odysseus"/>
          <p:cNvPicPr/>
          <p:nvPr/>
        </p:nvPicPr>
        <p:blipFill>
          <a:blip r:embed="rId1"/>
          <a:stretch/>
        </p:blipFill>
        <p:spPr>
          <a:xfrm>
            <a:off x="1835280" y="1552680"/>
            <a:ext cx="576576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Gender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even gets rolled up in this. The story asks: What makes a man a man? A woman a woman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8" name="Picture 6" descr="odysseus"/>
          <p:cNvPicPr/>
          <p:nvPr/>
        </p:nvPicPr>
        <p:blipFill>
          <a:blip r:embed="rId1"/>
          <a:stretch/>
        </p:blipFill>
        <p:spPr>
          <a:xfrm>
            <a:off x="1692360" y="1844640"/>
            <a:ext cx="512748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ffffcc"/>
                </a:solidFill>
                <a:latin typeface="Tahoma"/>
              </a:rPr>
              <a:t>Minivans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3143160" y="2629080"/>
            <a:ext cx="2857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pic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1557360"/>
            <a:ext cx="3195720" cy="31957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elevision &amp; Movi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o Was Homer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Greeks and Romans have always thought that the legendary poet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mer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was the greatest author eve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Yet, we know so very little about the man (or men?) who composed the 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Iliad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or the 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Odyssey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From the Ilia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3" name="Picture 6" descr="_The_Trojan_Horse"/>
          <p:cNvPicPr/>
          <p:nvPr/>
        </p:nvPicPr>
        <p:blipFill>
          <a:blip r:embed="rId1"/>
          <a:stretch/>
        </p:blipFill>
        <p:spPr>
          <a:xfrm>
            <a:off x="2916360" y="1341360"/>
            <a:ext cx="3360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at We Do Know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 an average night in the late Greek Dark Ages, a community, probably the wealthiest people, would settle in for an evening's entertainment. The professional story-teller, or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“Bard”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ould sing the stories of th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ojan Wa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its hero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songs would be the Greek equivalent of a mini-series, for the stories were so long that they would take days to complet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155520" y="46080"/>
            <a:ext cx="1447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onquest of Tro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8" name="Picture 7" descr="Troy1"/>
          <p:cNvPicPr/>
          <p:nvPr/>
        </p:nvPicPr>
        <p:blipFill>
          <a:blip r:embed="rId1"/>
          <a:stretch/>
        </p:blipFill>
        <p:spPr>
          <a:xfrm>
            <a:off x="2268360" y="1844640"/>
            <a:ext cx="496584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Importance of the Bar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stories probably began as short tales of isolated events and heroes; eventually a profession of story-telling was established—classical scholars call this new professional a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"bard."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is new professional began combining the stories into larger narrativ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the end of the Greek Dark Ages, these bards or story-tellers were probably the cultural center of Greek society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Bard – Priest of Cultur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2" name="Picture 6" descr="Homer4"/>
          <p:cNvPicPr/>
          <p:nvPr/>
        </p:nvPicPr>
        <p:blipFill>
          <a:blip r:embed="rId1"/>
          <a:stretch/>
        </p:blipFill>
        <p:spPr>
          <a:xfrm>
            <a:off x="2268360" y="1989000"/>
            <a:ext cx="462132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Greatest Bard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Greeks believed that the greatest of these story-tellers was a blind man named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omer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, and that he sung ten epic poems about the Trojan War; of which only two have survive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se two are called the 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Iliad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and the 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Odyssey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2T22:28:08Z</dcterms:created>
  <dc:creator>David</dc:creator>
  <dc:description/>
  <dc:language>en-US</dc:language>
  <cp:lastModifiedBy>Roynon, Andrew</cp:lastModifiedBy>
  <dcterms:modified xsi:type="dcterms:W3CDTF">2012-11-07T17:56:26Z</dcterms:modified>
  <cp:revision>14</cp:revision>
  <dc:subject/>
  <dc:title>Homer and History</dc:title>
</cp:coreProperties>
</file>