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A752-772C-4C33-8692-753DA61C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07CA-EA62-4133-BA5A-58B63F24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28D28-A708-4684-AFF2-03AF1E4D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9D5A7-4EF3-4447-9966-9FF82010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0E55-33A9-41AA-B01F-459C9285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7E7-790C-4ED8-86E4-77317A13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9076-272F-4CE0-B5FD-B5F56B4E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A59D-DA4D-4AAB-8BB9-E3F77EA9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E9A2-0C1E-4A96-BC45-5555E5CD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6E2F-2031-41D2-844B-F7D492F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895-E926-4439-B8A9-E6BA6E4B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84CC-155B-43A0-9935-6897C17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898B-5951-4B41-8EC7-F5688E3A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2F65-046A-43A0-882A-A9E00B8E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A34D-F1E0-45AE-ACE6-7AF2FC63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8EB-7131-4968-A8EC-4BC48EEB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719E-3F87-40D1-902A-E4794E64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7E070-E52D-4837-8592-152165A3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F726-5419-48EE-86DC-9952244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6AB86-8D90-403C-B706-33555E8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8B52-5B29-41CB-A81A-E647301C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71F9-1984-46C1-BEE7-13CC9625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2FC8-36A1-4E37-B5B8-D7E39BD9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299F-1857-4B40-A33B-49111D4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1C3F-60B9-4630-86BA-E539C93771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9409-0451-4F5E-93C5-D9C4CB8AEB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vius.org/a/1/greeks/homer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card.homer-simpson.de/images/homer/pic2.pn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omer and Histo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dyssey and Ancient Greek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Homer3"/>
          <p:cNvPicPr/>
          <p:nvPr/>
        </p:nvPicPr>
        <p:blipFill>
          <a:blip r:embed="rId1"/>
          <a:stretch/>
        </p:blipFill>
        <p:spPr>
          <a:xfrm>
            <a:off x="3348000" y="1773360"/>
            <a:ext cx="2371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ny classicists believe that the two surviving Homeric epics were in fact composed by several individuals; in the absence of any evidence to the contrary however, most classicists accept the overall Greek idea of a single author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eks in general regard Homer's two epics as the highest cultural achievement of their people, the defining moment in Greek culture which set the basic Greek character in st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out antiquity, both in Greece and Rome, everything tended to be compared to these two works; events in history made sense when put in the light of the events narrated in these two work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Acropol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Acropolis1"/>
          <p:cNvPicPr/>
          <p:nvPr/>
        </p:nvPicPr>
        <p:blipFill>
          <a:blip r:embed="rId1"/>
          <a:stretch/>
        </p:blipFill>
        <p:spPr>
          <a:xfrm>
            <a:off x="2411280" y="1700280"/>
            <a:ext cx="48006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e Importance of the Homeric Poems (Con’t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result, then, these two epics are the focal point of Greek values and the Greek world view despite all its evolution and permutations through the centuries following their compos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ould not be hasty to regard the Homeric poems as the single most important texts in Greek culture, or indeed (along with a very few texts) that of Western civilization, which stands upon the achievements and ideas of ancient Gree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then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5" descr="Acropolis"/>
          <p:cNvPicPr/>
          <p:nvPr/>
        </p:nvPicPr>
        <p:blipFill>
          <a:blip r:embed="rId1"/>
          <a:stretch/>
        </p:blipFill>
        <p:spPr>
          <a:xfrm>
            <a:off x="1692360" y="1484280"/>
            <a:ext cx="576576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y study the Odyssey?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mer's Iliad and Odyssey are a major part of ancient history, especially that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c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cient Greek history provides a cornerstone for all Western political, cultural, artistic, and social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urther,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Ilia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d the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dyssey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believed to have been a major part of a young Greek's education. They remain a part the education of tens of millions of adolescents every year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r’s </a:t>
            </a: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Odyssey’s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Influences are many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Picture 7" descr="Odysseus2"/>
          <p:cNvPicPr/>
          <p:nvPr/>
        </p:nvPicPr>
        <p:blipFill>
          <a:blip r:embed="rId1"/>
          <a:stretch/>
        </p:blipFill>
        <p:spPr>
          <a:xfrm>
            <a:off x="2916360" y="1916280"/>
            <a:ext cx="331452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ffffcc"/>
                </a:solidFill>
                <a:latin typeface="Tahoma"/>
              </a:rPr>
              <a:t>Stories, Poetry, and Writing </a:t>
            </a:r>
            <a:r>
              <a:rPr b="0" lang="en-CA" sz="2800" spc="-1" strike="noStrike">
                <a:solidFill>
                  <a:srgbClr val="ffffcc"/>
                </a:solidFill>
                <a:latin typeface="Tahoma"/>
              </a:rPr>
              <a:t>are the biggest beneficiaries and descendants of Homer (monomyth anyone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t out your “Glossary of Literary Terms” and write in these poetic elements that are traceable back to Hom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pic Sim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omeric Epith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etic rhy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rt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st of what the greatest renaissance artists did to revive and save our civilization was simply to re-create and re-imagine the ancient Greeks.  We’re still doing that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6" descr="odysseus"/>
          <p:cNvPicPr/>
          <p:nvPr/>
        </p:nvPicPr>
        <p:blipFill>
          <a:blip r:embed="rId1"/>
          <a:stretch/>
        </p:blipFill>
        <p:spPr>
          <a:xfrm>
            <a:off x="1835280" y="1773360"/>
            <a:ext cx="4867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ho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700280"/>
            <a:ext cx="2681280" cy="3341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Homer Questio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Ethic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 these stories teach the greeks, and, as a consequence, us how to live)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Picture 6" descr="odysseus"/>
          <p:cNvPicPr/>
          <p:nvPr/>
        </p:nvPicPr>
        <p:blipFill>
          <a:blip r:embed="rId1"/>
          <a:stretch/>
        </p:blipFill>
        <p:spPr>
          <a:xfrm>
            <a:off x="1835280" y="1552680"/>
            <a:ext cx="57657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Gender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even gets rolled up in this. The story asks: What makes a man a man? A woman a woma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Picture 6" descr="odysseus"/>
          <p:cNvPicPr/>
          <p:nvPr/>
        </p:nvPicPr>
        <p:blipFill>
          <a:blip r:embed="rId1"/>
          <a:stretch/>
        </p:blipFill>
        <p:spPr>
          <a:xfrm>
            <a:off x="1692360" y="1844640"/>
            <a:ext cx="5127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ffffcc"/>
                </a:solidFill>
                <a:latin typeface="Tahoma"/>
              </a:rPr>
              <a:t>Minivans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143160" y="2629080"/>
            <a:ext cx="2857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ic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5736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levision &amp; Mov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o Was Homer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and Romans have always thought that the legendary poet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was the greatest author ev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t, we know so very little about the man (or men?) who compos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or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rom the Ilia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Picture 6" descr="_The_Trojan_Horse"/>
          <p:cNvPicPr/>
          <p:nvPr/>
        </p:nvPicPr>
        <p:blipFill>
          <a:blip r:embed="rId1"/>
          <a:stretch/>
        </p:blipFill>
        <p:spPr>
          <a:xfrm>
            <a:off x="2916360" y="1341360"/>
            <a:ext cx="3360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e Do Kn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an average night in the late Greek Dark Ages, a community, probably the wealthiest people, would settle in for an evening's entertainment. The professional story-teller, o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Bard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ould sing the stories of th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ojan W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ts her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ongs would be the Greek equivalent of a mini-series, for the stories were so long that they would take days to comple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55520" y="46080"/>
            <a:ext cx="1447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onquest of Tro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7" descr="Troy1"/>
          <p:cNvPicPr/>
          <p:nvPr/>
        </p:nvPicPr>
        <p:blipFill>
          <a:blip r:embed="rId1"/>
          <a:stretch/>
        </p:blipFill>
        <p:spPr>
          <a:xfrm>
            <a:off x="2268360" y="1844640"/>
            <a:ext cx="4965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Importance of the Bar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stories probably began as short tales of isolated events and heroes; eventually a profession of story-telling was established—classical scholars call this new professional a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"bard."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is new professional began combining the stories into larger narra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the end of the Greek Dark Ages, these bards or story-tellers were probably the cultural center of Greek socie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Bard – Priest of 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Homer4"/>
          <p:cNvPicPr/>
          <p:nvPr/>
        </p:nvPicPr>
        <p:blipFill>
          <a:blip r:embed="rId1"/>
          <a:stretch/>
        </p:blipFill>
        <p:spPr>
          <a:xfrm>
            <a:off x="2268360" y="1989000"/>
            <a:ext cx="46213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Greatest Bar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Greeks believed that the greatest of these story-tellers was a blind man named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, and that he sung ten epic poems about the Trojan War; of which only two have surviv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se two are calle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Iliad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Odysse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2:28:08Z</dcterms:created>
  <dc:creator>David</dc:creator>
  <dc:description/>
  <dc:language>en-US</dc:language>
  <cp:lastModifiedBy>Roynon, Andrew</cp:lastModifiedBy>
  <dcterms:modified xsi:type="dcterms:W3CDTF">2012-11-07T17:56:26Z</dcterms:modified>
  <cp:revision>14</cp:revision>
  <dc:subject/>
  <dc:title>Homer and History</dc:title>
</cp:coreProperties>
</file>