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E7089-C9C7-4F71-A7BF-065FDBBD7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F7173-7144-43F2-ADC1-0EF091F8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70032-A8A6-4087-A9A1-3D52ACBA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85661-628D-4535-9298-FF3482F62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A579-8FDD-4E05-A16D-8C090B116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1313-6E52-4E52-8762-6D9D39CC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C3DD-FC42-46B0-9ECC-F2BBC2BA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A18E-2147-478A-9B79-D4AAD644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7265-87C8-4D1E-9E5A-7215B900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04B0-B727-48A6-8537-A22F4653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7556-42D1-4ED4-BE90-D1879ED4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676D4-17F6-4A65-8CF3-C314C27E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AD25-FB03-42F9-912D-8FD66266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6B7F-014E-4588-9093-945F3D7E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E88A-1763-4264-8198-0B37673D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D30D-BD1D-416D-B971-930A21917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7B78-0FE9-4FCF-8037-6FC6CC96E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0AD39-E0BF-4795-AB91-8EA5198A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86A3F-CE5E-42BF-82BE-1500CFDA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CF90C-BA0E-4495-9A0B-9A57E892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E0822-FFAF-4AC3-9596-492B25C4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20B0F-ACFD-48E5-AE4A-1F399DB8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555BA-F2C4-48DC-8253-8FBAB7A8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E568C-1FCA-40E4-94CF-9E136D97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0314-C42B-4B89-ABED-A519E6A585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158C-B3DF-45C4-9C59-9BC172B6B6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ivius.org/a/1/greeks/homer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vcard.homer-simpson.de/images/homer/pic2.pn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Homer and History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Odyssey and Ancient Greek 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Homer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6" name="Picture 6" descr="Homer3"/>
          <p:cNvPicPr/>
          <p:nvPr/>
        </p:nvPicPr>
        <p:blipFill>
          <a:blip r:embed="rId1"/>
          <a:stretch/>
        </p:blipFill>
        <p:spPr>
          <a:xfrm>
            <a:off x="3348000" y="1773360"/>
            <a:ext cx="237168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Greatest Bard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ny classicists believe that the two surviving Homeric epics were in fact composed by several individuals; in the absence of any evidence to the contrary however, most classicists accept the overall Greek idea of a single author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The Importance of the Homeric Poems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reeks in general regard Homer's two epics as the highest cultural achievement of their people, the defining moment in Greek culture which set the basic Greek character in ston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oughout antiquity, both in Greece and Rome, everything tended to be compared to these two works; events in history made sense when put in the light of the events narrated in these two work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Acropoli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2" name="Picture 6" descr="Acropolis1"/>
          <p:cNvPicPr/>
          <p:nvPr/>
        </p:nvPicPr>
        <p:blipFill>
          <a:blip r:embed="rId1"/>
          <a:stretch/>
        </p:blipFill>
        <p:spPr>
          <a:xfrm>
            <a:off x="2411280" y="1700280"/>
            <a:ext cx="480060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The Importance of the Homeric Poems (Con’t)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a result, then, these two epics are the focal point of Greek values and the Greek world view despite all its evolution and permutations through the centuries following their composi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would not be hasty to regard the Homeric poems as the single most important texts in Greek culture, or indeed (along with a very few texts) that of Western civilization, which stands upon the achievements and ideas of ancient Greec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arthen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6" name="Picture 5" descr="Acropolis"/>
          <p:cNvPicPr/>
          <p:nvPr/>
        </p:nvPicPr>
        <p:blipFill>
          <a:blip r:embed="rId1"/>
          <a:stretch/>
        </p:blipFill>
        <p:spPr>
          <a:xfrm>
            <a:off x="1692360" y="1484280"/>
            <a:ext cx="576576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y study the Odyssey?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omer's Iliad and Odyssey are a major part of ancient history, especially that of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ncient Greece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ncient Greek history provides a cornerstone for all Western political, cultural, artistic, and social realit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urther, the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Ilia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nd the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Odyssey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re believed to have been a major part of a young Greek's education. They remain a part the education of tens of millions of adolescents every year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Homer’s </a:t>
            </a:r>
            <a:r>
              <a:rPr b="0" i="1" lang="en-US" sz="4200" spc="-1" strike="noStrike">
                <a:solidFill>
                  <a:srgbClr val="ffffcc"/>
                </a:solidFill>
                <a:latin typeface="Tahoma"/>
              </a:rPr>
              <a:t>Odyssey’s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Influences are many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0" name="Picture 7" descr="Odysseus2"/>
          <p:cNvPicPr/>
          <p:nvPr/>
        </p:nvPicPr>
        <p:blipFill>
          <a:blip r:embed="rId1"/>
          <a:stretch/>
        </p:blipFill>
        <p:spPr>
          <a:xfrm>
            <a:off x="2916360" y="1916280"/>
            <a:ext cx="331452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ffffcc"/>
                </a:solidFill>
                <a:latin typeface="Tahoma"/>
              </a:rPr>
              <a:t>Stories, Poetry, and Writing </a:t>
            </a:r>
            <a:r>
              <a:rPr b="0" lang="en-CA" sz="2800" spc="-1" strike="noStrike">
                <a:solidFill>
                  <a:srgbClr val="ffffcc"/>
                </a:solidFill>
                <a:latin typeface="Tahoma"/>
              </a:rPr>
              <a:t>are the biggest beneficiaries and descendants of Homer (monomyth anyone?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Get out your “Glossary of Literary Terms” and write in these poetic elements that are traceable back to Hom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Epic Simi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Homeric Epith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oetic 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oetic rhyth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Art: 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Most of what the greatest renaissance artists did to revive and save our civilization was simply to re-create and re-imagine the ancient Greeks.  We’re still doing that…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4" name="Picture 6" descr="odysseus"/>
          <p:cNvPicPr/>
          <p:nvPr/>
        </p:nvPicPr>
        <p:blipFill>
          <a:blip r:embed="rId1"/>
          <a:stretch/>
        </p:blipFill>
        <p:spPr>
          <a:xfrm>
            <a:off x="1835280" y="1773360"/>
            <a:ext cx="48672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hom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1700280"/>
            <a:ext cx="2681280" cy="33415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Homer Question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Ethics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( these stories teach the greeks, and, as a consequence, us how to live)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6" name="Picture 6" descr="odysseus"/>
          <p:cNvPicPr/>
          <p:nvPr/>
        </p:nvPicPr>
        <p:blipFill>
          <a:blip r:embed="rId1"/>
          <a:stretch/>
        </p:blipFill>
        <p:spPr>
          <a:xfrm>
            <a:off x="1835280" y="1552680"/>
            <a:ext cx="576576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Gender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even gets rolled up in this. The story asks: What makes a man a man? A woman a woman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8" name="Picture 6" descr="odysseus"/>
          <p:cNvPicPr/>
          <p:nvPr/>
        </p:nvPicPr>
        <p:blipFill>
          <a:blip r:embed="rId1"/>
          <a:stretch/>
        </p:blipFill>
        <p:spPr>
          <a:xfrm>
            <a:off x="1692360" y="1844640"/>
            <a:ext cx="512748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ffffcc"/>
                </a:solidFill>
                <a:latin typeface="Tahoma"/>
              </a:rPr>
              <a:t>Minivans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3143160" y="2629080"/>
            <a:ext cx="2857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pic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1557360"/>
            <a:ext cx="3195720" cy="31957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elevision &amp; Movi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o Was Homer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Greeks and Romans have always thought that the legendary poet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mer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was the greatest author eve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Yet, we know so very little about the man (or men?) who composed the 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Iliad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or the 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Odyssey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From the Ilia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3" name="Picture 6" descr="_The_Trojan_Horse"/>
          <p:cNvPicPr/>
          <p:nvPr/>
        </p:nvPicPr>
        <p:blipFill>
          <a:blip r:embed="rId1"/>
          <a:stretch/>
        </p:blipFill>
        <p:spPr>
          <a:xfrm>
            <a:off x="2916360" y="1341360"/>
            <a:ext cx="3360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at We Do Know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 an average night in the late Greek Dark Ages, a community, probably the wealthiest people, would settle in for an evening's entertainment. The professional story-teller, or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“Bard”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ould sing the stories of th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ojan Wa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its hero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songs would be the Greek equivalent of a mini-series, for the stories were so long that they would take days to complet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155520" y="46080"/>
            <a:ext cx="1447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onquest of Tro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8" name="Picture 7" descr="Troy1"/>
          <p:cNvPicPr/>
          <p:nvPr/>
        </p:nvPicPr>
        <p:blipFill>
          <a:blip r:embed="rId1"/>
          <a:stretch/>
        </p:blipFill>
        <p:spPr>
          <a:xfrm>
            <a:off x="2268360" y="1844640"/>
            <a:ext cx="496584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Importance of the Bar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stories probably began as short tales of isolated events and heroes; eventually a profession of story-telling was established—classical scholars call this new professional a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"bard."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is new professional began combining the stories into larger narrativ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the end of the Greek Dark Ages, these bards or story-tellers were probably the cultural center of Greek society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Bard – Priest of Cultur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2" name="Picture 6" descr="Homer4"/>
          <p:cNvPicPr/>
          <p:nvPr/>
        </p:nvPicPr>
        <p:blipFill>
          <a:blip r:embed="rId1"/>
          <a:stretch/>
        </p:blipFill>
        <p:spPr>
          <a:xfrm>
            <a:off x="2268360" y="1989000"/>
            <a:ext cx="462132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Greatest Bard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Greeks believed that the greatest of these story-tellers was a blind man named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omer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, and that he sung ten epic poems about the Trojan War; of which only two have survive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se two are called the 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Iliad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and the 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Odyssey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2T22:28:08Z</dcterms:created>
  <dc:creator>David</dc:creator>
  <dc:description/>
  <dc:language>en-US</dc:language>
  <cp:lastModifiedBy>Roynon, Andrew</cp:lastModifiedBy>
  <dcterms:modified xsi:type="dcterms:W3CDTF">2012-11-07T17:56:26Z</dcterms:modified>
  <cp:revision>14</cp:revision>
  <dc:subject/>
  <dc:title>Homer and History</dc:title>
</cp:coreProperties>
</file>