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D693-12E8-49DB-AB7D-B364A16C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1F44-8314-454A-971F-E847F5F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89B2-F855-48E2-86FA-B12193A8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AF67-A872-45AF-8921-E4503E54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66CF-17ED-49E2-9968-0571B7AF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F6B1-EB70-4901-875B-EF78D074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B6C-E1AD-416B-80B0-2241FAB3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7929-65EB-4750-BD65-810E175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F2E5-D3B7-4A91-8676-F86169F4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3CEF-D403-4BE8-96ED-068E647C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C1D-576F-46FE-A80A-F04E15F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54C8B-97FF-4439-B7AE-0F404E70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0514-9185-4D92-9E55-FDE18221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D98-6FBE-428A-BF17-88C7AD4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5276-C114-49C3-8BC8-8E7526F6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C83A-EB46-45D1-BDDD-74DABE46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B564-5C66-4683-9243-C62ED3A8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DEB4-901E-475C-B18A-2B122792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50C7-DF48-4BFB-9FE9-789D8D8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8728-44F2-4977-A0CC-D09D12F0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F97F-7BFE-42FD-859A-E5E7076E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B9FB-5E8A-4F65-9377-6A6FA58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0029-14B7-4B41-B704-FDD161B1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503D-6069-4157-9DD3-CA709F7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E4A4-CBAD-4DE1-A139-028667DA49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B258-AAA5-4BE8-A695-B8196EC6E2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ius.org/a/1/greeks/hom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card.homer-simpson.de/images/homer/pic2.pn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mer and Hi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dyssey and Ancient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Homer3"/>
          <p:cNvPicPr/>
          <p:nvPr/>
        </p:nvPicPr>
        <p:blipFill>
          <a:blip r:embed="rId1"/>
          <a:stretch/>
        </p:blipFill>
        <p:spPr>
          <a:xfrm>
            <a:off x="3348000" y="1773360"/>
            <a:ext cx="2371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y classicists believe that the two surviving Homeric epics were in fact composed by several individuals; in the absence of any evidence to the contrary however, most classicists accept the overall Greek idea of a single auth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in general regard Homer's two epics as the highest cultural achievement of their people, the defining moment in Greek culture which set the basic Greek character in st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out antiquity, both in Greece and Rome, everything tended to be compared to these two works; events in history made sense when put in the light of the events narrated in these two wor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ropol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Acropolis1"/>
          <p:cNvPicPr/>
          <p:nvPr/>
        </p:nvPicPr>
        <p:blipFill>
          <a:blip r:embed="rId1"/>
          <a:stretch/>
        </p:blipFill>
        <p:spPr>
          <a:xfrm>
            <a:off x="2411280" y="1700280"/>
            <a:ext cx="48006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 (Con’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then, these two epics are the focal point of Greek values and the Greek world view despite all its evolution and permutations through the centuries following their com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ould not be hasty to regard the Homeric poems as the single most important texts in Greek culture, or indeed (along with a very few texts) that of Western civilization, which stands upon the achievements and ideas of ancient Gre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then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5" descr="Acropolis"/>
          <p:cNvPicPr/>
          <p:nvPr/>
        </p:nvPicPr>
        <p:blipFill>
          <a:blip r:embed="rId1"/>
          <a:stretch/>
        </p:blipFill>
        <p:spPr>
          <a:xfrm>
            <a:off x="1692360" y="1484280"/>
            <a:ext cx="5765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y study the Odyssey?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er's Iliad and Odyssey are a major part of ancient history, especially that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c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k history provides a cornerstone for all Western political, cultural, artistic, and social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,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lia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dysse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believed to have been a major part of a young Greek's education. They remain a part the education of tens of millions of adolescents every year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’s 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Odyssey’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Influences are many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Odysseus2"/>
          <p:cNvPicPr/>
          <p:nvPr/>
        </p:nvPicPr>
        <p:blipFill>
          <a:blip r:embed="rId1"/>
          <a:stretch/>
        </p:blipFill>
        <p:spPr>
          <a:xfrm>
            <a:off x="2916360" y="1916280"/>
            <a:ext cx="33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cc"/>
                </a:solidFill>
                <a:latin typeface="Tahoma"/>
              </a:rPr>
              <a:t>Stories, Poetry, and Writing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are the biggest beneficiaries and descendants of Homer (monomyth anyone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t out your “Glossary of Literary Terms” and write in these poetic elements that are traceable back to H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pic Si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omeric Epith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rhy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rt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st of what the greatest renaissance artists did to revive and save our civilization was simply to re-create and re-imagine the ancient Greeks.  We’re still doing that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6" descr="odysseus"/>
          <p:cNvPicPr/>
          <p:nvPr/>
        </p:nvPicPr>
        <p:blipFill>
          <a:blip r:embed="rId1"/>
          <a:stretch/>
        </p:blipFill>
        <p:spPr>
          <a:xfrm>
            <a:off x="1835280" y="1773360"/>
            <a:ext cx="4867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2681280" cy="334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Homer Ques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thic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 these stories teach the greeks, and, as a consequence, us how to live)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odysseus"/>
          <p:cNvPicPr/>
          <p:nvPr/>
        </p:nvPicPr>
        <p:blipFill>
          <a:blip r:embed="rId1"/>
          <a:stretch/>
        </p:blipFill>
        <p:spPr>
          <a:xfrm>
            <a:off x="1835280" y="1552680"/>
            <a:ext cx="57657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end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even gets rolled up in this. The story asks: What makes a man a man? A woman a woma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6" descr="odysseus"/>
          <p:cNvPicPr/>
          <p:nvPr/>
        </p:nvPicPr>
        <p:blipFill>
          <a:blip r:embed="rId1"/>
          <a:stretch/>
        </p:blipFill>
        <p:spPr>
          <a:xfrm>
            <a:off x="1692360" y="1844640"/>
            <a:ext cx="5127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Miniva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levision &amp; Mov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o Was Homer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and Romans have always thought that the legendary poe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greatest author ev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t, we know so very little about the man (or men?) who compos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the Ili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_The_Trojan_Horse"/>
          <p:cNvPicPr/>
          <p:nvPr/>
        </p:nvPicPr>
        <p:blipFill>
          <a:blip r:embed="rId1"/>
          <a:stretch/>
        </p:blipFill>
        <p:spPr>
          <a:xfrm>
            <a:off x="2916360" y="1341360"/>
            <a:ext cx="3360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e Do Kn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n average night in the late Greek Dark Ages, a community, probably the wealthiest people, would settle in for an evening's entertainment. The professional story-teller,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Bard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sing the stories of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ojan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her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ongs would be the Greek equivalent of a mini-series, for the stories were so long that they would take days to compl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55520" y="4608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quest of Tro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Troy1"/>
          <p:cNvPicPr/>
          <p:nvPr/>
        </p:nvPicPr>
        <p:blipFill>
          <a:blip r:embed="rId1"/>
          <a:stretch/>
        </p:blipFill>
        <p:spPr>
          <a:xfrm>
            <a:off x="2268360" y="1844640"/>
            <a:ext cx="4965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Importance of the Ba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tories probably began as short tales of isolated events and heroes; eventually a profession of story-telling was established—classical scholars call this new professional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"bard.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s new professional began combining the stories into larger narra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end of the Greek Dark Ages, these bards or story-tellers were probably the cultural center of Greek socie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Bard – Priest of 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Homer4"/>
          <p:cNvPicPr/>
          <p:nvPr/>
        </p:nvPicPr>
        <p:blipFill>
          <a:blip r:embed="rId1"/>
          <a:stretch/>
        </p:blipFill>
        <p:spPr>
          <a:xfrm>
            <a:off x="2268360" y="1989000"/>
            <a:ext cx="46213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believed that the greatest of these story-tellers was a blind man nam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and that he sung ten epic poems about the Trojan War; of which only two have survi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se two are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2:28:08Z</dcterms:created>
  <dc:creator>David</dc:creator>
  <dc:description/>
  <dc:language>en-US</dc:language>
  <cp:lastModifiedBy>Roynon, Andrew</cp:lastModifiedBy>
  <dcterms:modified xsi:type="dcterms:W3CDTF">2012-11-07T17:56:26Z</dcterms:modified>
  <cp:revision>14</cp:revision>
  <dc:subject/>
  <dc:title>Homer and History</dc:title>
</cp:coreProperties>
</file>