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AF1B-5D8F-4CFE-A59A-53C070D3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414D-8E3A-4ADC-B955-0AFE08AB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FACD-81AE-4B7A-86A5-C7D825F5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FB44-A895-4AC5-BE2D-528EC16C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D877-5DA4-4568-BAF4-42B825BE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A6C8-7E3D-47BB-8559-BEC17855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EA88-6713-425E-AB47-8DAE21E7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79A8-9E42-4DC9-B36A-2DFE6679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7DD1-8646-4938-997E-65A7EFE8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CE1C-5696-4333-83B6-EAB13D8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9FE-DC74-49CD-B9DE-77F7BCF3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4E795-82F3-4435-BAC8-590E24E7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9B92-0D37-47AF-A875-C1D06B1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136F-4D8A-424B-94C1-D16E50E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F7D4-EA7A-4176-BA9E-45CAB0DC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A0A6-3549-4198-A49C-28785131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EF58-6316-4AF6-AF91-3E665325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0C375-5B06-456C-A71E-39C6EE42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6F1D-40D9-4274-810B-FBA982E5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991B-C4D0-4904-AE3D-1AA6B7FC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DBD3-6AEA-489C-91DE-5BB27BD0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0FE3-3A37-4687-B155-53CE4FF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180F-CED8-4A11-8689-097C459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452A-8489-40D5-9FA2-0166CFCD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8042-0F52-4B9D-94CD-77964F61A9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D8ED-6999-4776-866F-1F9310688C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ius.org/a/1/greeks/hom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card.homer-simpson.de/images/homer/pic2.pn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mer and Hi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dyssey and Ancient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Homer3"/>
          <p:cNvPicPr/>
          <p:nvPr/>
        </p:nvPicPr>
        <p:blipFill>
          <a:blip r:embed="rId1"/>
          <a:stretch/>
        </p:blipFill>
        <p:spPr>
          <a:xfrm>
            <a:off x="3348000" y="1773360"/>
            <a:ext cx="2371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y classicists believe that the two surviving Homeric epics were in fact composed by several individuals; in the absence of any evidence to the contrary however, most classicists accept the overall Greek idea of a single author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in general regard Homer's two epics as the highest cultural achievement of their people, the defining moment in Greek culture which set the basic Greek character in st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out antiquity, both in Greece and Rome, everything tended to be compared to these two works; events in history made sense when put in the light of the events narrated in these two work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ropol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Acropolis1"/>
          <p:cNvPicPr/>
          <p:nvPr/>
        </p:nvPicPr>
        <p:blipFill>
          <a:blip r:embed="rId1"/>
          <a:stretch/>
        </p:blipFill>
        <p:spPr>
          <a:xfrm>
            <a:off x="2411280" y="1700280"/>
            <a:ext cx="48006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 (Con’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then, these two epics are the focal point of Greek values and the Greek world view despite all its evolution and permutations through the centuries following their com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ould not be hasty to regard the Homeric poems as the single most important texts in Greek culture, or indeed (along with a very few texts) that of Western civilization, which stands upon the achievements and ideas of ancient Gre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then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5" descr="Acropolis"/>
          <p:cNvPicPr/>
          <p:nvPr/>
        </p:nvPicPr>
        <p:blipFill>
          <a:blip r:embed="rId1"/>
          <a:stretch/>
        </p:blipFill>
        <p:spPr>
          <a:xfrm>
            <a:off x="1692360" y="1484280"/>
            <a:ext cx="5765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y study the Odyssey?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er's Iliad and Odyssey are a major part of ancient history, especially that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c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k history provides a cornerstone for all Western political, cultural, artistic, and social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rther,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lia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dysse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believed to have been a major part of a young Greek's education. They remain a part the education of tens of millions of adolescents every year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’s 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Odyssey’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Influences are many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Odysseus2"/>
          <p:cNvPicPr/>
          <p:nvPr/>
        </p:nvPicPr>
        <p:blipFill>
          <a:blip r:embed="rId1"/>
          <a:stretch/>
        </p:blipFill>
        <p:spPr>
          <a:xfrm>
            <a:off x="2916360" y="1916280"/>
            <a:ext cx="33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cc"/>
                </a:solidFill>
                <a:latin typeface="Tahoma"/>
              </a:rPr>
              <a:t>Stories, Poetry, and Writing </a:t>
            </a:r>
            <a:r>
              <a:rPr b="0" lang="en-CA" sz="2800" spc="-1" strike="noStrike">
                <a:solidFill>
                  <a:srgbClr val="ffffcc"/>
                </a:solidFill>
                <a:latin typeface="Tahoma"/>
              </a:rPr>
              <a:t>are the biggest beneficiaries and descendants of Homer (monomyth anyone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t out your “Glossary of Literary Terms” and write in these poetic elements that are traceable back to H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pic Si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omeric Epith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rhy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rt: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st of what the greatest renaissance artists did to revive and save our civilization was simply to re-create and re-imagine the ancient Greeks.  We’re still doing that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6" descr="odysseus"/>
          <p:cNvPicPr/>
          <p:nvPr/>
        </p:nvPicPr>
        <p:blipFill>
          <a:blip r:embed="rId1"/>
          <a:stretch/>
        </p:blipFill>
        <p:spPr>
          <a:xfrm>
            <a:off x="1835280" y="1773360"/>
            <a:ext cx="4867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700280"/>
            <a:ext cx="2681280" cy="334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Homer Questi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thic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 these stories teach the greeks, and, as a consequence, us how to live)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odysseus"/>
          <p:cNvPicPr/>
          <p:nvPr/>
        </p:nvPicPr>
        <p:blipFill>
          <a:blip r:embed="rId1"/>
          <a:stretch/>
        </p:blipFill>
        <p:spPr>
          <a:xfrm>
            <a:off x="1835280" y="1552680"/>
            <a:ext cx="57657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ende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even gets rolled up in this. The story asks: What makes a man a man? A woman a woman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Picture 6" descr="odysseus"/>
          <p:cNvPicPr/>
          <p:nvPr/>
        </p:nvPicPr>
        <p:blipFill>
          <a:blip r:embed="rId1"/>
          <a:stretch/>
        </p:blipFill>
        <p:spPr>
          <a:xfrm>
            <a:off x="1692360" y="1844640"/>
            <a:ext cx="5127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Miniva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i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levision &amp; Mov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o Was Homer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and Romans have always thought that the legendary poe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greatest author ev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t, we know so very little about the man (or men?) who compos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the Ili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_The_Trojan_Horse"/>
          <p:cNvPicPr/>
          <p:nvPr/>
        </p:nvPicPr>
        <p:blipFill>
          <a:blip r:embed="rId1"/>
          <a:stretch/>
        </p:blipFill>
        <p:spPr>
          <a:xfrm>
            <a:off x="2916360" y="1341360"/>
            <a:ext cx="3360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e Do Kn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n average night in the late Greek Dark Ages, a community, probably the wealthiest people, would settle in for an evening's entertainment. The professional story-teller, 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Bard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sing the stories of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ojan W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her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ongs would be the Greek equivalent of a mini-series, for the stories were so long that they would take days to compl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55520" y="4608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quest of Tro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7" descr="Troy1"/>
          <p:cNvPicPr/>
          <p:nvPr/>
        </p:nvPicPr>
        <p:blipFill>
          <a:blip r:embed="rId1"/>
          <a:stretch/>
        </p:blipFill>
        <p:spPr>
          <a:xfrm>
            <a:off x="2268360" y="1844640"/>
            <a:ext cx="49658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Importance of the Ba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tories probably began as short tales of isolated events and heroes; eventually a profession of story-telling was established—classical scholars call this new professional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"bard.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s new professional began combining the stories into larger narra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end of the Greek Dark Ages, these bards or story-tellers were probably the cultural center of Greek socie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Bard – Priest of 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Homer4"/>
          <p:cNvPicPr/>
          <p:nvPr/>
        </p:nvPicPr>
        <p:blipFill>
          <a:blip r:embed="rId1"/>
          <a:stretch/>
        </p:blipFill>
        <p:spPr>
          <a:xfrm>
            <a:off x="2268360" y="1989000"/>
            <a:ext cx="46213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believed that the greatest of these story-tellers was a blind man nam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and that he sung ten epic poems about the Trojan War; of which only two have survi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se two are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22:28:08Z</dcterms:created>
  <dc:creator>David</dc:creator>
  <dc:description/>
  <dc:language>en-US</dc:language>
  <cp:lastModifiedBy>Roynon, Andrew</cp:lastModifiedBy>
  <dcterms:modified xsi:type="dcterms:W3CDTF">2012-11-07T17:56:26Z</dcterms:modified>
  <cp:revision>14</cp:revision>
  <dc:subject/>
  <dc:title>Homer and History</dc:title>
</cp:coreProperties>
</file>