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7C078-FF2F-4549-86B5-FB4631C7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41A1-05F7-41C6-80CD-38A37214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BBFE-B10B-44EE-BD0C-5EA97018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7D79-927D-465B-93E0-91667107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7A0A-B75C-4137-8C97-08000A4D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8714-4C3F-4DA4-8E4D-DC52F5E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EEAF-587D-47A2-8A31-9A8FE78F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E8C0-5B16-49D4-9DF9-E708355D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CD2C-325B-4986-B3FB-A48C4CC2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815F-FD90-4D4D-9C62-31CF4C6A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4849-73B3-459A-BE6F-84516F5B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19D8-A1FC-4E38-AEB0-05B33AC6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58BB-6333-4F3B-B165-369FF243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17C2-0D15-4D7C-BC33-AD72678F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0388-53DC-45B8-8BBD-8A3FC28A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13A1-74F7-48BA-A3CF-D4C2F853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D6DC-6D17-4CE2-A56B-71BE5B23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408B-4364-4300-9947-CA8A4708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A9B8D-6FD4-4EA4-9D6D-234BFA02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C490-FDD0-42D0-A50E-7CA0BAF1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C51A-B65F-4A2C-B703-074464E2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3E97-37E3-4DD7-9A3A-AEFF95D6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1C64-1341-490E-8B48-6B68928C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AF09-1DF0-4458-82A5-C4DD623D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17EB-53BF-4B49-B1DC-EE7EC4F2DD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C7D4-CF2D-4074-865E-B260A7157A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vius.org/a/1/greeks/hom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vcard.homer-simpson.de/images/homer/pic2.pn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mer and Histo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dyssey and Ancient Greek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6" descr="Homer3"/>
          <p:cNvPicPr/>
          <p:nvPr/>
        </p:nvPicPr>
        <p:blipFill>
          <a:blip r:embed="rId1"/>
          <a:stretch/>
        </p:blipFill>
        <p:spPr>
          <a:xfrm>
            <a:off x="3348000" y="1773360"/>
            <a:ext cx="23716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ny classicists believe that the two surviving Homeric epics were in fact composed by several individuals; in the absence of any evidence to the contrary however, most classicists accept the overall Greek idea of a single author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eks in general regard Homer's two epics as the highest cultural achievement of their people, the defining moment in Greek culture which set the basic Greek character in ston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out antiquity, both in Greece and Rome, everything tended to be compared to these two works; events in history made sense when put in the light of the events narrated in these two work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Acropol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6" descr="Acropolis1"/>
          <p:cNvPicPr/>
          <p:nvPr/>
        </p:nvPicPr>
        <p:blipFill>
          <a:blip r:embed="rId1"/>
          <a:stretch/>
        </p:blipFill>
        <p:spPr>
          <a:xfrm>
            <a:off x="2411280" y="1700280"/>
            <a:ext cx="48006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 (Con’t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result, then, these two epics are the focal point of Greek values and the Greek world view despite all its evolution and permutations through the centuries following their compos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ould not be hasty to regard the Homeric poems as the single most important texts in Greek culture, or indeed (along with a very few texts) that of Western civilization, which stands upon the achievements and ideas of ancient Gree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then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5" descr="Acropolis"/>
          <p:cNvPicPr/>
          <p:nvPr/>
        </p:nvPicPr>
        <p:blipFill>
          <a:blip r:embed="rId1"/>
          <a:stretch/>
        </p:blipFill>
        <p:spPr>
          <a:xfrm>
            <a:off x="1692360" y="1484280"/>
            <a:ext cx="57657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y study the Odyssey?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mer's Iliad and Odyssey are a major part of ancient history, especially that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c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k history provides a cornerstone for all Western political, cultural, artistic, and social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urther,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Ilia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d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Odysse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e believed to have been a major part of a young Greek's education. They remain a part the education of tens of millions of adolescents every year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’s </a:t>
            </a: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Odyssey’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Influences are many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7" descr="Odysseus2"/>
          <p:cNvPicPr/>
          <p:nvPr/>
        </p:nvPicPr>
        <p:blipFill>
          <a:blip r:embed="rId1"/>
          <a:stretch/>
        </p:blipFill>
        <p:spPr>
          <a:xfrm>
            <a:off x="2916360" y="1916280"/>
            <a:ext cx="33145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cc"/>
                </a:solidFill>
                <a:latin typeface="Tahoma"/>
              </a:rPr>
              <a:t>Stories, Poetry, and Writing </a:t>
            </a:r>
            <a:r>
              <a:rPr b="0" lang="en-CA" sz="2800" spc="-1" strike="noStrike">
                <a:solidFill>
                  <a:srgbClr val="ffffcc"/>
                </a:solidFill>
                <a:latin typeface="Tahoma"/>
              </a:rPr>
              <a:t>are the biggest beneficiaries and descendants of Homer (monomyth anyone?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et out your “Glossary of Literary Terms” and write in these poetic elements that are traceable back to H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pic Sim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omeric Epith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rhy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rt: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st of what the greatest renaissance artists did to revive and save our civilization was simply to re-create and re-imagine the ancient Greeks.  We’re still doing that…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6" descr="odysseus"/>
          <p:cNvPicPr/>
          <p:nvPr/>
        </p:nvPicPr>
        <p:blipFill>
          <a:blip r:embed="rId1"/>
          <a:stretch/>
        </p:blipFill>
        <p:spPr>
          <a:xfrm>
            <a:off x="1835280" y="1773360"/>
            <a:ext cx="4867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700280"/>
            <a:ext cx="2681280" cy="3341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Homer Questio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thic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( these stories teach the greeks, and, as a consequence, us how to live)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6" descr="odysseus"/>
          <p:cNvPicPr/>
          <p:nvPr/>
        </p:nvPicPr>
        <p:blipFill>
          <a:blip r:embed="rId1"/>
          <a:stretch/>
        </p:blipFill>
        <p:spPr>
          <a:xfrm>
            <a:off x="1835280" y="1552680"/>
            <a:ext cx="57657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ender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even gets rolled up in this. The story asks: What makes a man a man? A woman a woman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Picture 6" descr="odysseus"/>
          <p:cNvPicPr/>
          <p:nvPr/>
        </p:nvPicPr>
        <p:blipFill>
          <a:blip r:embed="rId1"/>
          <a:stretch/>
        </p:blipFill>
        <p:spPr>
          <a:xfrm>
            <a:off x="1692360" y="1844640"/>
            <a:ext cx="51274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Minivan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143160" y="262908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ic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5736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levision &amp; Mov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o Was Homer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and Romans have always thought that the legendary poet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s the greatest author ev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t, we know so very little about the man (or men?) who compos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r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om the Ili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6" descr="_The_Trojan_Horse"/>
          <p:cNvPicPr/>
          <p:nvPr/>
        </p:nvPicPr>
        <p:blipFill>
          <a:blip r:embed="rId1"/>
          <a:stretch/>
        </p:blipFill>
        <p:spPr>
          <a:xfrm>
            <a:off x="2916360" y="1341360"/>
            <a:ext cx="3360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e Do Know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an average night in the late Greek Dark Ages, a community, probably the wealthiest people, would settle in for an evening's entertainment. The professional story-teller, o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Bard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uld sing the stories of th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ojan W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ts her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ongs would be the Greek equivalent of a mini-series, for the stories were so long that they would take days to comple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55520" y="46080"/>
            <a:ext cx="1447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quest of Tro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7" descr="Troy1"/>
          <p:cNvPicPr/>
          <p:nvPr/>
        </p:nvPicPr>
        <p:blipFill>
          <a:blip r:embed="rId1"/>
          <a:stretch/>
        </p:blipFill>
        <p:spPr>
          <a:xfrm>
            <a:off x="2268360" y="1844640"/>
            <a:ext cx="49658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Importance of the Ba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tories probably began as short tales of isolated events and heroes; eventually a profession of story-telling was established—classical scholars call this new professional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"bard.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is new professional began combining the stories into larger narrati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the end of the Greek Dark Ages, these bards or story-tellers were probably the cultural center of Greek socie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Bard – Priest of Cul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6" descr="Homer4"/>
          <p:cNvPicPr/>
          <p:nvPr/>
        </p:nvPicPr>
        <p:blipFill>
          <a:blip r:embed="rId1"/>
          <a:stretch/>
        </p:blipFill>
        <p:spPr>
          <a:xfrm>
            <a:off x="2268360" y="1989000"/>
            <a:ext cx="46213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believed that the greatest of these story-tellers was a blind man named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and that he sung ten epic poems about the Trojan War; of which only two have surviv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se two are call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22:28:08Z</dcterms:created>
  <dc:creator>David</dc:creator>
  <dc:description/>
  <dc:language>en-US</dc:language>
  <cp:lastModifiedBy>Roynon, Andrew</cp:lastModifiedBy>
  <dcterms:modified xsi:type="dcterms:W3CDTF">2012-11-07T17:56:26Z</dcterms:modified>
  <cp:revision>14</cp:revision>
  <dc:subject/>
  <dc:title>Homer and History</dc:title>
</cp:coreProperties>
</file>